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  <p:sldId id="267" r:id="rId34"/>
    <p:sldId id="26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slide" Target="slides/slide12.xml"/><Relationship Id="rId35" Type="http://schemas.openxmlformats.org/officeDocument/2006/relationships/slide" Target="slides/slide1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70204-B16A-45AB-82B6-08FBA752D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5CA0C-8A10-4A5A-9990-73394A88F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1160FC-C104-49C3-B26E-0279A0536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F08F63-9909-4318-8EBB-FFB16CA2A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2E500A-DB06-4278-930D-045D47775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921906-F099-4FD0-9927-E790695D3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CD9A1C-2520-45B0-9C49-57AEFE876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3FB082-F600-4694-9C04-C6B5ECB8E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F31995-F1B8-4629-B395-FD351E09C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65E5FA-F91C-484F-A6B7-5270E8186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2AC90B-1221-4370-A6CE-27CA6EAE3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341C66-32F7-4A53-AB75-024876906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BE0BB-5464-4606-933E-726AA6C90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AC59D9-3525-410F-A407-F4CD89223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AD44A0-AC73-482A-9D84-667445F27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D1C1F3-4D4D-481E-9FBE-F418573F7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51BE20-68F4-4244-825D-8AB2BED20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A82676-EF98-4902-BAC5-86FA2FF3D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A292E3-5C83-4160-A7B0-75F595A02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880D11-469A-4A37-A96D-25AF91780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236D99-4B5C-4F34-A05A-2570946D8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417DF5-89B1-4E13-88EA-DC0EA3B6B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937B59-F416-4264-B865-750973577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B3A71-C6FC-4136-8613-286BABFF5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A9BB1F-69EE-4CB5-959A-5F5236201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74035C-1684-48BC-89EE-8D3D2D4F1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4748C1-8BDF-4D53-8BC8-764443A90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81D8CD-897C-43EE-B1D6-E4D894C8D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103CAB-66AF-4B35-9F70-0C9099E62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3DC7D7-BB09-4E01-93A9-9CF25DA85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8AE2A1-A44B-46A1-A0E7-EABBC6509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75DA99-AEA1-4FD5-BD3F-9D90A511A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3CD5D8-88FE-4B8E-9256-595B50D12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B2F24A-5CA2-413B-A2F1-7E7B29208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32C41-F8A1-4793-8402-8A5ACE726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D5E213-93D2-49CB-87D6-04A54DDA6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ADAD26-039F-48FC-94F7-ABD1B31AE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7E7F97-4B57-4A7D-B5E1-E198C6C95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D8F32B-43B0-4D2D-9F51-D137A0FC4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A172BB-43B6-4EFC-84FC-43B96A8D7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DF27AD-5AF1-4C18-8DED-CE51882D0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08CB5F-5AF1-46DD-B42B-EDD410AE5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0D3DD3-B75C-4F1B-B485-D6E500948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6A9B72-4E4A-4B16-9762-F88C53F5A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7E6034-6B17-4FF0-B2C2-E436E24FE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E6AA6-1E18-4C23-91CA-C8CAC152B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137EEB-3D69-4DBD-AF2B-092B4EF30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059A77-2363-4D29-A208-EB66301D1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15A498-1060-483A-A45E-4A06904C8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D31232-C97D-4F96-A155-D889AE9C3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9A159D-EFB8-411E-8DF6-7C1449008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791184C-F605-4D28-9899-86185C426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ECF2652-41C0-4E9B-BC04-E5FAA8B80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B188DC7-4C5C-4A76-A3C5-1C35850A0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59D5E89-C8FC-4C4B-AFFD-37EB755D9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7C2597D-D1A9-4941-ABC2-81D5EF32B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643DA-4D04-46E1-BE68-FCDC6BF2C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BACFF16-7BB8-4E27-9BA1-F018A28D4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E11EC90-004E-4F42-B3C6-4E2A3421D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5A19391-A4D9-49D2-A047-5FBCE97CE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E0D0175-85C2-47C5-930A-DE2BABBC2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EFCB3F5-A515-4CE3-801A-0DD2C6F99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071A9DD-B94F-47C8-B221-39EA710E7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FEC1239-89E6-4949-B990-3BABA1389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BBE857B-AF77-4B92-90B4-C27B55B50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1E999C8-14DC-4B61-A624-B9A369ABA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6B6232F-78A9-4E44-B462-7D6D5F6E1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A2D6F-A3C8-494B-B950-2101D8354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619C2C4-5366-4639-92C6-44BFE478D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7BE60CB-1721-4636-A6AB-37C7528AB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9C5BD3A-5303-4DB4-A396-68FECCCCE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B8CF31E-79C2-4693-BE83-926F9E50B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71C1A7F-E2D9-4E2F-ABF8-5DA0237E6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9143ABE-4677-49B5-A6C5-1C61272F7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5181171-F247-4A9A-8BC0-320C3A0A1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09B6C37-F2F2-4C0E-B50F-047A29EC3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78891FB-3057-4C28-8D69-23C4EC761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4817771-A76D-48FD-AC00-6F59DB739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A51ED-1763-4A27-9F17-1FCEA4FC8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3700886-EE72-4B87-B8D2-9A4F135E0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72FBA45-F293-42CD-BE1F-C0FAEC339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D417215-B65F-4D72-97FD-291FC7D6C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0868F75-2A1B-4BAE-BBEC-D4D466F69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9786C38-91CF-4AC9-BB10-5A1ACE2D1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2C7458A-168B-4E32-AB86-C5E1311F8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6E86D49-C905-4233-91B3-F7ADBE348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22667BD-F5CA-4BED-BEB2-545230130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7A4788B-63E4-4D4E-8F4C-59A6435BD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6A51D53-A3FD-44C7-8592-6A3AE6BFE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BB163-A619-4B3B-97F4-5A980DC1C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01CA55C-E658-48EC-BB78-ABFFBFFEE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8C9DA94-5410-484A-8792-D64EE979B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951BBA4-37C9-4C3E-9AE1-BBF9C5773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2F612DB-8B37-40DC-84E9-10E28DA3D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937B262-7A2F-43E4-B244-2192B1785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834BC8F-9940-4895-8ACE-A8D35B157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7A9312D-B91A-4B8D-9350-538E4808E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AD55DE3-C76F-4672-859D-7A60A4A8F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BB2322C-BF0B-4FF5-90D2-626D1A534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F5A73C4-64C3-4B52-AB82-225087A53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A3E05-DBA9-4B02-9A4D-47693A4B8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956AB44-A887-4C68-9118-7A52E23F5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5BE62E4-126C-4FBA-953E-8624837BC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FA06FE0-11F3-48B3-B96C-5DB87B131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EDE1150-7130-439B-8424-EBB472EA1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63C82B2-1F15-43B0-B7B6-655DF3B38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335BEB5-98C2-4560-800E-16803F34F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E64F138-DEBB-430F-A800-7022E204F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162D883-3315-4D1C-84FE-DB7F03653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2ACDF51-3A3B-4F35-826A-A82F3A3B8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7373DAB-0177-4170-9769-7520CCD82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0C0DF-8EDF-40C7-BF52-E34FE8AE2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CAD12-12CA-4877-A52C-54CE03AEC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BD217AF-B9EF-444B-8B9F-F64E60F90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D7AAF6F-DF0E-4C7A-B2CA-AF3C18422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9799264-17E9-445C-B7C4-DC4D257CD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3275ACA-E4AE-4D55-A5E3-F173E6D4F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B82A8B8-9124-4545-B329-7CFF9BA4D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A86E852-2BDD-471F-ABFC-80F8AA9DC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D10E611-C378-4F26-B73A-35788FD60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36FB8CE-AAB0-4FAD-A565-8F5F0B3B1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CBD594C-3AB4-4A91-9DB8-3B112F8E7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F5D2460-0A56-4231-8CC9-9A59B0099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D6F7D-31A5-4FB6-B655-297CBB7C4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891ACB3-5008-487D-B923-EEBF00B99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3483686-F301-4F47-BF15-BA19EE7ED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9C2D36D-27F9-47B5-9969-7D5A0D5E2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119700E-D5B2-43A0-9C9A-6E112851E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83949CE-A200-4BEF-A8EC-FB976A573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D1BC4FB-9539-4344-A0E9-5836FB795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7EBEF21-8364-4002-968F-28331B74C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1D2D0D9-6D07-4E29-9D94-AED4E87CD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3DB555B-BC37-4601-BADD-3435B9657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AF265CD-E2E0-4CE7-AEAC-0B32837C2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BFD38-10C1-4FFD-B135-B0CD65E32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918D098-01A5-46A3-9ECB-84E1F4B1B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A1EA501-77A9-4C7A-955C-6E31E7A24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1C25DFF-3B6F-4141-9A6C-CF3597D99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556CE93-301F-4FC3-AD14-ACE3E8CFC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414427B-3D05-4C76-8F3C-B72CB085E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2893914-4518-4F00-9C19-05D83E4D4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4A73397-EA23-421D-9622-3F70075F1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83C58BB-2BBB-4771-9951-A06CDE2C8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C68CA4F-457E-486C-8085-B87A3E070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FDC7366-FA79-4C56-94D8-038645A56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F5013-198B-4A33-8DDD-6F60C84E1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5036B97-B3B1-45EA-884E-847758062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AB27F32-2859-4EDE-A506-E92505AB4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AFE72CB-51CF-4011-874F-948694C1D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55A4C0D-B0BA-4EE6-B2A3-DE0158B30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371C7E5-B79F-4E67-9222-A605A7789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7892124-97DC-4192-85AC-DB1CC2E1F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4FAD657-964C-4879-8285-BD7BF69D0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2C8A8D9-C216-44E4-8184-C9BC62ACE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28142E3-9B9D-4DD3-80A9-EC6C790E1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B9C384D-803F-49C4-A08B-FCCD8AB3A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FA79D-5215-4724-A214-6E6EF5D55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089054F-9735-417C-A1B9-9F9707481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DB2E121-ED87-45F8-A539-19B9ACB67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0BED7C3-E2CF-4CFA-89E0-11EC033E9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D28B482-CE5F-46E4-B1EA-20F1C29D0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CFE28DA-B451-4467-B2D0-1206EAA93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B7FB81F-7B67-4225-A741-0C38CDFFB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0A3AD76-08AF-449B-8BCD-6DCCC3FB9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9E7AB06-0793-42D7-9EFF-9871EEE68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9E1CC73-2238-48DB-B9EC-499B83E91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EAD75ED-9784-4027-97A9-E03262F28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159499-8F06-438F-A7F8-6FBC83311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D172C1C-8BC0-4909-B35F-AC14D37FF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A1467CA-F961-49E5-B7D0-8CB84E3FA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29F448C-19A3-4187-9B0D-408D92B78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A39B81-C4C2-4EB6-AC45-B47B132E3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27D305-A4B4-4D50-BE7A-00870B500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8E3C63-7D99-4972-BC27-D410C4AD5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897A61-D4A3-4A78-A077-3A68ED3C9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9276C-1D40-402B-BD30-B09DD4CFB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0CD2B3-3CEF-4ABA-8756-F754A7703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21CDCD-AF58-4B0C-BCFE-C0B1ACA2B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E83DEC-0C5F-49BB-A9B0-1B4C812AE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EB5B4A-F57A-4202-93A4-5EE130751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E7F477-8AF0-43FE-A565-39139E114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97630D-9C4C-4F46-94D2-DCFFFC2A2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17260D-D10A-4264-AEFC-4585F1D9B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67AA73-CDE2-49DC-8D75-563425434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D99915-9F9D-44B9-858B-4C5B8F134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EF0F80-BEF4-4224-95A9-276227197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2D671-8C50-4E56-8C01-1AF093CEB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2DEE14-672C-4876-A8BA-6D6DD496B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8BB087-5B70-4816-8687-81E098DCC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854097-3BED-4F9D-96B4-07EDDF6FB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95E9A7-3410-4A19-B335-86142577D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6BAEBB-9EAD-49D4-865D-2EC8F9228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FD97FC-90D9-4ADA-B139-C3F5D2E4F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4466CE-773A-430D-A81C-594499A84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67F0F6-0A1A-4AF5-81B6-C39E6863A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0BAD79-9A9E-488A-9687-C7452317C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DEFDD2-DA9C-4151-A744-327E31F06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3A2AC-3CB0-41A1-8911-CFBE343D6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B25440-F13F-46E4-B162-E67B6B447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0610C8-E24F-49B1-9D7C-A74DCE270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45F00D-D370-46C0-836C-C9467AFE8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D61DF2-6DAD-4506-A16D-B6F894FEE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C91914-5BAF-4449-9AF7-7AEB9DFCD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0E1DD5-8F11-4738-B7B8-5BCDCCDB5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312F4A-D7A9-4CE9-B19F-4EA87184E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740C51-43E4-416F-9EAA-4883F487A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C30B7B-4CC6-476D-BB47-9573BE438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B228F4-5647-44BC-988A-21D918211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0C1DF-23AA-4A94-975B-6BB73F207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AB7265-8854-4F1A-AAD6-25A31BA0A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BD0642-F31E-4172-8D7B-C5472446C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C22051-64E2-4677-B909-3601841EC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35C297-4F0C-4E2E-A09F-A8F16E858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9EE86E-0C52-4A75-9626-B5CCD6FA2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71942D-7E67-4EAD-BEB9-0B7CD6F05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AB7579-86EE-42C6-A095-67CDC8044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53AB49-15D2-49E7-AA4A-FE029ED64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FE857C-3685-48B6-93FF-141090A27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F71594-4286-41C4-BE93-8F0E4DDBD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4758A-DDFF-4C87-A4FF-9DF96E372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51AD03-D01D-48A0-B975-ED6AD9731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B4F378-267D-4DF9-9597-970775F0F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178802-0722-4A2E-883D-88C74E311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61D97C-306D-48D3-97DE-49F517F7A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16E0CF-6EE3-4A89-8176-A23967964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821D38-F804-4B80-B83A-213F0B5FE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1A9740-12FC-400D-88B1-329B0DB3D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2A40E6-B7C3-4103-8400-63724BDC7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D4A65B-5D35-4E18-9F0D-65D16C7D9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7A0853-D654-41A1-83FF-5AEEC46B6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E292B-D25B-4969-9AF2-53FB3ECD8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48EA17-B805-4E8D-9403-EF5A8BCEB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DF1ABE-F439-49E5-933A-9F9266888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5D97F9-CB43-4015-8F5E-298C57C22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4DD589-100B-4532-92EA-06749DE18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FCF6B1-66DF-4D29-B505-E8CB6C81E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7FC49C-AB4E-4961-9B2F-00F5047CA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7EE739-057C-44ED-9D0A-670F872B1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E911F4-6F2C-4303-94BB-8FF62FE2A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70CAAC-0289-4494-AB52-06EE5D752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F809D5-A6B2-4F26-9866-CE2FA81E5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D41C3-3DCA-44B0-8D6E-148403C68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DD4586-C6A0-422F-8138-41ED209E4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6B71B3-7973-427B-9F95-335427DDA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765E91-000B-4504-A8D0-7EBF2875D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6E04AC-346D-4317-891A-67F96EA5E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9F2A9E-D1EB-4A3F-92B4-1A1CE335A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C4DC83-54EE-4A53-9B87-C72442474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C62ABD-9161-47B1-9FA9-90859936C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55A7E8-1A5D-423A-A1D8-F5BCF27BB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4CFEDD-BB8D-4F31-81FD-5343B6024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007027-ED86-483E-8C0A-BFE57CB85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07612-11B9-48A0-8A3A-94EFE62C77E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76735-42B4-4ED5-8DA8-12C3E56C799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829F3-3E46-4245-A734-736EC64870D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14CD8-F88E-4D1F-95B9-6B31AA04AF6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ACD0A-6980-48EA-9AEF-4C0D2A16F24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06897-BA22-48F8-A86F-2C1BBFD2BA5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8A0F8-F041-4842-97E8-255017E294A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9F5A3-D1A5-4B8C-A3CB-D2FCC9198D7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EB3BC-2278-4ACF-952D-7B0F8693615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1589E-3E4B-4532-8FBF-693106047D3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1171E-1BF8-4953-972B-0FA55653FF4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B5297-76DA-41B6-ADE4-6C1AE160ED4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CC348-5F5E-4B21-98A6-CB1BB7D2A6A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5B6B1-E48A-4B6C-945F-FEFC37965E5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47C12-6095-4055-8897-38F8CAE80A8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4AD25-62A1-478A-A6EF-4E7CE4C2E8F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5A137-B67D-425C-927C-5D2B1DA7513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18E6D-D31E-412E-8D6E-37688D4D4DE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2BBD8-98EF-408B-A0D5-77FF57339F8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B77F4-4271-4940-89FD-E687839205C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8E7E0-B270-4DC8-BC19-8FAD68F0713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64B7B-D998-44E7-A0F6-7BAFE9D610E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4DA6E-CAC5-432F-9DCB-8D39D657292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8F93B-1CC1-4E03-90E2-558271221F1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B986F-01C3-4C21-9857-25C42C112A0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052BD-67A5-4EB9-B0C9-61C9FEE97BD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7E8D2-1504-4159-AB56-F749ECAD02A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6CFA9-BDCA-465E-A674-CB7C6206297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BF39D-1A80-4425-9CF7-6778625D80D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8A756-3CF2-4D41-B606-1D7C6F7849C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7CEDF-5EB8-48E9-909E-ECBAD05686C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80DF5-2A43-4B60-99F5-59457CF3BBB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34CB5-18CE-47C5-8813-A661AF43666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CD69F-EF0A-4480-BD8D-D5D2C3B71E0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EA086-B70E-4B6F-A00D-89810EC4E7F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579DD-061A-4347-A0C7-3091BA1DE0E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8C79C-6CAF-42F6-9DE6-0FF31CD94E7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B1D7C-E955-4AEA-823F-80119BB5F09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DBFD7-7E0B-49C0-93BD-CE8E0EDC249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A552F-B368-43E3-A9E5-86BB1FEEB42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2" name="图片 28681" descr=""/>
          <p:cNvPicPr/>
          <p:nvPr/>
        </p:nvPicPr>
        <p:blipFill>
          <a:blip r:embed="rId1"/>
          <a:stretch/>
        </p:blipFill>
        <p:spPr>
          <a:xfrm>
            <a:off x="1219320" y="2919240"/>
            <a:ext cx="6705360" cy="10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9" name="图片 114689" descr=""/>
          <p:cNvPicPr/>
          <p:nvPr/>
        </p:nvPicPr>
        <p:blipFill>
          <a:blip r:embed="rId1"/>
          <a:stretch/>
        </p:blipFill>
        <p:spPr>
          <a:xfrm>
            <a:off x="539640" y="1557360"/>
            <a:ext cx="7991640" cy="3790800"/>
          </a:xfrm>
          <a:prstGeom prst="rect">
            <a:avLst/>
          </a:prstGeom>
          <a:ln w="0">
            <a:noFill/>
          </a:ln>
        </p:spPr>
      </p:pic>
      <p:sp>
        <p:nvSpPr>
          <p:cNvPr id="1050" name="矩形 114690"/>
          <p:cNvSpPr/>
          <p:nvPr/>
        </p:nvSpPr>
        <p:spPr>
          <a:xfrm>
            <a:off x="7831080" y="4924440"/>
            <a:ext cx="312840" cy="411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4" dur="10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1" name="图片 113665" descr=""/>
          <p:cNvPicPr/>
          <p:nvPr/>
        </p:nvPicPr>
        <p:blipFill>
          <a:blip r:embed="rId1"/>
          <a:stretch/>
        </p:blipFill>
        <p:spPr>
          <a:xfrm>
            <a:off x="755640" y="1484280"/>
            <a:ext cx="7581960" cy="387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3" name="图片 122881" descr=""/>
          <p:cNvPicPr/>
          <p:nvPr/>
        </p:nvPicPr>
        <p:blipFill>
          <a:blip r:embed="rId1"/>
          <a:stretch/>
        </p:blipFill>
        <p:spPr>
          <a:xfrm>
            <a:off x="590400" y="1028880"/>
            <a:ext cx="79632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4" name="图片 121857" descr=""/>
          <p:cNvPicPr/>
          <p:nvPr/>
        </p:nvPicPr>
        <p:blipFill>
          <a:blip r:embed="rId1"/>
          <a:stretch/>
        </p:blipFill>
        <p:spPr>
          <a:xfrm>
            <a:off x="561960" y="2124000"/>
            <a:ext cx="7981920" cy="1524240"/>
          </a:xfrm>
          <a:prstGeom prst="rect">
            <a:avLst/>
          </a:prstGeom>
          <a:ln w="0">
            <a:noFill/>
          </a:ln>
        </p:spPr>
      </p:pic>
      <p:pic>
        <p:nvPicPr>
          <p:cNvPr id="1025" name="图片 121858" descr=""/>
          <p:cNvPicPr/>
          <p:nvPr/>
        </p:nvPicPr>
        <p:blipFill>
          <a:blip r:embed="rId2"/>
          <a:stretch/>
        </p:blipFill>
        <p:spPr>
          <a:xfrm>
            <a:off x="563400" y="3754440"/>
            <a:ext cx="7972560" cy="92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6" name="图片 120833" descr=""/>
          <p:cNvPicPr/>
          <p:nvPr/>
        </p:nvPicPr>
        <p:blipFill>
          <a:blip r:embed="rId1"/>
          <a:stretch/>
        </p:blipFill>
        <p:spPr>
          <a:xfrm>
            <a:off x="552600" y="923760"/>
            <a:ext cx="80010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7" name="图片 119809" descr=""/>
          <p:cNvPicPr/>
          <p:nvPr/>
        </p:nvPicPr>
        <p:blipFill>
          <a:blip r:embed="rId1"/>
          <a:stretch/>
        </p:blipFill>
        <p:spPr>
          <a:xfrm>
            <a:off x="533520" y="804960"/>
            <a:ext cx="8001000" cy="5629320"/>
          </a:xfrm>
          <a:prstGeom prst="rect">
            <a:avLst/>
          </a:prstGeom>
          <a:ln w="0">
            <a:noFill/>
          </a:ln>
        </p:spPr>
      </p:pic>
      <p:sp>
        <p:nvSpPr>
          <p:cNvPr id="1028" name="矩形 119810"/>
          <p:cNvSpPr/>
          <p:nvPr/>
        </p:nvSpPr>
        <p:spPr>
          <a:xfrm>
            <a:off x="1011240" y="3295800"/>
            <a:ext cx="7736040" cy="411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矩形 119811"/>
          <p:cNvSpPr/>
          <p:nvPr/>
        </p:nvSpPr>
        <p:spPr>
          <a:xfrm>
            <a:off x="954000" y="4038480"/>
            <a:ext cx="7736040" cy="411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矩形 119812"/>
          <p:cNvSpPr/>
          <p:nvPr/>
        </p:nvSpPr>
        <p:spPr>
          <a:xfrm>
            <a:off x="900000" y="4653000"/>
            <a:ext cx="7878960" cy="411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矩形 119813"/>
          <p:cNvSpPr/>
          <p:nvPr/>
        </p:nvSpPr>
        <p:spPr>
          <a:xfrm>
            <a:off x="925560" y="5343480"/>
            <a:ext cx="7735680" cy="411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矩形 119814"/>
          <p:cNvSpPr/>
          <p:nvPr/>
        </p:nvSpPr>
        <p:spPr>
          <a:xfrm>
            <a:off x="954000" y="6058080"/>
            <a:ext cx="7736040" cy="411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10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10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3" name="图片 118787" descr=""/>
          <p:cNvPicPr/>
          <p:nvPr/>
        </p:nvPicPr>
        <p:blipFill>
          <a:blip r:embed="rId1"/>
          <a:stretch/>
        </p:blipFill>
        <p:spPr>
          <a:xfrm>
            <a:off x="542880" y="747720"/>
            <a:ext cx="7962840" cy="1076400"/>
          </a:xfrm>
          <a:prstGeom prst="rect">
            <a:avLst/>
          </a:prstGeom>
          <a:ln w="0">
            <a:noFill/>
          </a:ln>
        </p:spPr>
      </p:pic>
      <p:pic>
        <p:nvPicPr>
          <p:cNvPr id="1034" name="图片 118788" descr=""/>
          <p:cNvPicPr/>
          <p:nvPr/>
        </p:nvPicPr>
        <p:blipFill>
          <a:blip r:embed="rId2"/>
          <a:stretch/>
        </p:blipFill>
        <p:spPr>
          <a:xfrm>
            <a:off x="914400" y="1924200"/>
            <a:ext cx="7562880" cy="3105000"/>
          </a:xfrm>
          <a:prstGeom prst="rect">
            <a:avLst/>
          </a:prstGeom>
          <a:ln w="0">
            <a:noFill/>
          </a:ln>
        </p:spPr>
      </p:pic>
      <p:pic>
        <p:nvPicPr>
          <p:cNvPr id="1035" name="图片 118789" descr=""/>
          <p:cNvPicPr/>
          <p:nvPr/>
        </p:nvPicPr>
        <p:blipFill>
          <a:blip r:embed="rId3"/>
          <a:stretch/>
        </p:blipFill>
        <p:spPr>
          <a:xfrm>
            <a:off x="480960" y="5229360"/>
            <a:ext cx="4267080" cy="380880"/>
          </a:xfrm>
          <a:prstGeom prst="rect">
            <a:avLst/>
          </a:prstGeom>
          <a:ln w="0">
            <a:noFill/>
          </a:ln>
        </p:spPr>
      </p:pic>
      <p:pic>
        <p:nvPicPr>
          <p:cNvPr id="1036" name="图片 118790" descr=""/>
          <p:cNvPicPr/>
          <p:nvPr/>
        </p:nvPicPr>
        <p:blipFill>
          <a:blip r:embed="rId4"/>
          <a:stretch/>
        </p:blipFill>
        <p:spPr>
          <a:xfrm>
            <a:off x="952560" y="5708520"/>
            <a:ext cx="7543800" cy="1019160"/>
          </a:xfrm>
          <a:prstGeom prst="rect">
            <a:avLst/>
          </a:prstGeom>
          <a:ln w="0">
            <a:noFill/>
          </a:ln>
        </p:spPr>
      </p:pic>
      <p:sp>
        <p:nvSpPr>
          <p:cNvPr id="1037" name="矩形 118791"/>
          <p:cNvSpPr/>
          <p:nvPr/>
        </p:nvSpPr>
        <p:spPr>
          <a:xfrm>
            <a:off x="782640" y="1914480"/>
            <a:ext cx="7736040" cy="411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矩形 118792"/>
          <p:cNvSpPr/>
          <p:nvPr/>
        </p:nvSpPr>
        <p:spPr>
          <a:xfrm>
            <a:off x="906480" y="2600280"/>
            <a:ext cx="7736040" cy="411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矩形 118793"/>
          <p:cNvSpPr/>
          <p:nvPr/>
        </p:nvSpPr>
        <p:spPr>
          <a:xfrm>
            <a:off x="868320" y="3267000"/>
            <a:ext cx="7736040" cy="411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矩形 118794"/>
          <p:cNvSpPr/>
          <p:nvPr/>
        </p:nvSpPr>
        <p:spPr>
          <a:xfrm>
            <a:off x="925560" y="3933720"/>
            <a:ext cx="7735680" cy="411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矩形 118795"/>
          <p:cNvSpPr/>
          <p:nvPr/>
        </p:nvSpPr>
        <p:spPr>
          <a:xfrm>
            <a:off x="801720" y="4657680"/>
            <a:ext cx="7735680" cy="411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矩形 118796"/>
          <p:cNvSpPr/>
          <p:nvPr/>
        </p:nvSpPr>
        <p:spPr>
          <a:xfrm>
            <a:off x="906480" y="5686560"/>
            <a:ext cx="7736040" cy="411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矩形 118797"/>
          <p:cNvSpPr/>
          <p:nvPr/>
        </p:nvSpPr>
        <p:spPr>
          <a:xfrm>
            <a:off x="763560" y="6343560"/>
            <a:ext cx="7736040" cy="411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10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10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10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10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10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8" dur="10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3" dur="10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4" name="图片 117761" descr=""/>
          <p:cNvPicPr/>
          <p:nvPr/>
        </p:nvPicPr>
        <p:blipFill>
          <a:blip r:embed="rId1"/>
          <a:stretch/>
        </p:blipFill>
        <p:spPr>
          <a:xfrm>
            <a:off x="581040" y="1247760"/>
            <a:ext cx="7981920" cy="4362480"/>
          </a:xfrm>
          <a:prstGeom prst="rect">
            <a:avLst/>
          </a:prstGeom>
          <a:ln w="0">
            <a:noFill/>
          </a:ln>
        </p:spPr>
      </p:pic>
      <p:sp>
        <p:nvSpPr>
          <p:cNvPr id="1045" name="矩形 117762"/>
          <p:cNvSpPr/>
          <p:nvPr/>
        </p:nvSpPr>
        <p:spPr>
          <a:xfrm>
            <a:off x="7897680" y="5153040"/>
            <a:ext cx="312840" cy="411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0" dur="10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6" name="图片 116737" descr=""/>
          <p:cNvPicPr/>
          <p:nvPr/>
        </p:nvPicPr>
        <p:blipFill>
          <a:blip r:embed="rId1"/>
          <a:stretch/>
        </p:blipFill>
        <p:spPr>
          <a:xfrm>
            <a:off x="776160" y="1504800"/>
            <a:ext cx="7591680" cy="38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7" name="图片 115713" descr=""/>
          <p:cNvPicPr/>
          <p:nvPr/>
        </p:nvPicPr>
        <p:blipFill>
          <a:blip r:embed="rId1"/>
          <a:stretch/>
        </p:blipFill>
        <p:spPr>
          <a:xfrm>
            <a:off x="539640" y="907920"/>
            <a:ext cx="8001000" cy="5172120"/>
          </a:xfrm>
          <a:prstGeom prst="rect">
            <a:avLst/>
          </a:prstGeom>
          <a:ln w="0">
            <a:noFill/>
          </a:ln>
        </p:spPr>
      </p:pic>
      <p:sp>
        <p:nvSpPr>
          <p:cNvPr id="1048" name="矩形 115714"/>
          <p:cNvSpPr/>
          <p:nvPr/>
        </p:nvSpPr>
        <p:spPr>
          <a:xfrm>
            <a:off x="7869240" y="2876400"/>
            <a:ext cx="312840" cy="411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7" dur="10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8-14T01:24:37Z</dcterms:modified>
  <cp:revision>36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